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200B-E672-47AF-86D5-5514759D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BB20-3EA9-4C4F-A8D5-450DF8EB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12CA-197E-4983-AD42-301847C5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6760-E489-4AF3-8EF7-5EDC79F2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8E54-7580-45D9-9939-54F600F2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0B3F-B0A4-42DB-8F85-5069CA83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863E-BE1C-46D2-9156-78BB5ADE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F277-6353-473D-91B5-52AB9106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6344-777A-45BB-B672-440F4CDC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6177-3D1A-40AA-9957-B930DA17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45A5-EB76-4C5E-A8AD-1DFCB39C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93D4-05BB-4040-BA26-DCA249A7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D6DC-4D45-4DFC-BC13-F000B04D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156D-8F66-451D-801B-D1B0F68D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22DE-B5EA-45AC-88B7-D7B8C94E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DE8D-7819-4BD7-8A1F-2AA21B50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A82A-9236-44DA-8E08-6217AF6A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92338-BC12-4541-ABEA-C1BEE92F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02A88-2CBC-4DC2-8141-C509006A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A48DE-3894-420D-8C88-B9F9BC87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F814F-58F6-49A4-81E0-1BBD43BA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9DC61-5623-469F-A30D-80FC6373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B13D-EB2B-45FB-805E-0A533FC9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CCEFE-DA52-42E6-9731-88926FF3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938A6-C09D-4451-B9D6-5990A19D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D48E3-C9F6-4A39-B4AD-4211062A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82B05-AEE2-4C8D-B88B-38C616FE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E0F2F-88EB-4623-BD16-825EED67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DFB5A-BAB6-40FB-B844-2B6E2449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7F4A1-BF54-468F-A962-0170F2D4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92BA9-FD27-4C47-8572-A1346889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83725-EC39-4D77-98BA-B6AA7392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785A3-F3CA-4E50-8DB1-5B2AB14C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889-7AD4-404E-A2F5-2A0E9933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4510C-1ECA-483D-8176-E52F6AF6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64E67-889D-4CC9-A905-ED08BAD8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C7613-9510-4728-A61F-55E7C9CA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9EF6A-6E34-43B0-B96F-F3256DDE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8F9B5-45A5-4BFF-9CDF-FAA5DC0C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FD0F8-19A1-4212-8597-3221CEBE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C235A-74E2-43D1-9072-178AC1F8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7CF43-FD9A-4683-B839-E55F28AA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6804D-3AEF-4E5D-81E2-DDB90A11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BE04-7D6B-46E1-BEDD-DE325F81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659-47D7-416C-884D-ECCB4ADC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783D-A0FC-4426-AB8F-D81399C7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CFC2-1805-40C4-8999-BFE698BE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569B-4DE9-42C9-8761-802F3076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E9CE-4E05-4B27-B163-7AA0900A55E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44B5-C803-429C-A918-876D3B800533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D56D-F470-453B-BFA0-F16424D93DBB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88BB-89C8-43B6-9C5A-A0BB785E383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219240" y="2816280"/>
            <a:ext cx="8626320" cy="2120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Zambia_crest"/>
          <p:cNvPicPr/>
          <p:nvPr/>
        </p:nvPicPr>
        <p:blipFill>
          <a:blip r:embed="rId2"/>
          <a:stretch/>
        </p:blipFill>
        <p:spPr>
          <a:xfrm>
            <a:off x="3886200" y="533520"/>
            <a:ext cx="1316160" cy="15271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3"/>
          <p:cNvSpPr/>
          <p:nvPr/>
        </p:nvSpPr>
        <p:spPr>
          <a:xfrm>
            <a:off x="1143000" y="56386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Michael Ngulube, DACO, Chip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Stalin Sichinga, ARO, Z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"/>
                <a:ea typeface="Arial"/>
              </a:rPr>
              <a:t>Challenges cont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1904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pre released varieties of the cowpeas are high yielding but not preferred by farmer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of dibble stick required more labour. Farmers preferred using a ripper for C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Coordination between partn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Communication between implementers and other stakehol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Calendar of events not properly followed (short notice of important meeting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farmers are not able to read and write and therefore miss out on da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4617b"/>
                </a:solidFill>
                <a:latin typeface="Arial"/>
                <a:ea typeface="Arial"/>
              </a:rPr>
              <a:t>Possible solutions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8240" y="1295280"/>
            <a:ext cx="4800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per planning in early October for all the field activ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sign of a calendar of events and activ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iscussion on best ways on flow of funds (CIMMYT and IITA manage one projec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llow up needs to improve (both organizations hired research assistant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5" descr=""/>
          <p:cNvPicPr/>
          <p:nvPr/>
        </p:nvPicPr>
        <p:blipFill>
          <a:blip r:embed="rId1"/>
          <a:stretch/>
        </p:blipFill>
        <p:spPr>
          <a:xfrm>
            <a:off x="5100480" y="2048040"/>
            <a:ext cx="313380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Title 4"/>
          <p:cNvSpPr/>
          <p:nvPr/>
        </p:nvSpPr>
        <p:spPr>
          <a:xfrm>
            <a:off x="1676520" y="2819520"/>
            <a:ext cx="6476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Lucida Sans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mbia has an area of 750,000 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ith about 13 million peopl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90,000 k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land is arabl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nly 14% is cropped in any yea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bout 55 - 60% of the land area is covered by natural for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6% of Zambia’s land surface is covered by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712800" y="5784840"/>
            <a:ext cx="7827840" cy="1079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" descr="regions"/>
          <p:cNvPicPr/>
          <p:nvPr/>
        </p:nvPicPr>
        <p:blipFill>
          <a:blip r:embed="rId2"/>
          <a:srcRect l="3146" t="4460" r="2649" b="5398"/>
          <a:stretch/>
        </p:blipFill>
        <p:spPr>
          <a:xfrm>
            <a:off x="914400" y="838080"/>
            <a:ext cx="731520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INTRODUCTION cont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cial wellbeing and economic development in Zambia is strongly linked with productivity growth in agriculture and sustainable management of farming system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ize is the main staple food crop grown widely in the country and critical for ensuring food security for the poo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Constraints in Zambian Farming Systems</a:t>
            </a:r>
            <a:br>
              <a:rPr sz="43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23920" y="1219320"/>
            <a:ext cx="3962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8600" y="1752480"/>
            <a:ext cx="4268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gative effects of climate chan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il degrada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availability of improved varie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ysfunctional input-output marke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ts and dise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imited draft power and farm imple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0" y="365760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10" descr=""/>
          <p:cNvPicPr/>
          <p:nvPr/>
        </p:nvPicPr>
        <p:blipFill>
          <a:blip r:embed="rId1"/>
          <a:srcRect l="0" t="12402" r="0" b="8858"/>
          <a:stretch/>
        </p:blipFill>
        <p:spPr>
          <a:xfrm>
            <a:off x="4724280" y="1219320"/>
            <a:ext cx="4038840" cy="229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9" name="Picture 4" descr="August 23, 2003 (23)"/>
          <p:cNvPicPr/>
          <p:nvPr/>
        </p:nvPicPr>
        <p:blipFill>
          <a:blip r:embed="rId2"/>
          <a:stretch/>
        </p:blipFill>
        <p:spPr>
          <a:xfrm>
            <a:off x="4572000" y="3657600"/>
            <a:ext cx="4191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0520" y="456840"/>
            <a:ext cx="84582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o address some constraints in Zambian farming systems, Feed the Future through IITA, is implementing Sustainable Intensification of Maize-Legume Systems for the Eastern Province of Zambia (SIMLEZA) which focus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:  Maize-legume systems agronomy and breed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utrition focus: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oya processing and utilizati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pacity building of national agricultural research systems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4617b"/>
                </a:solidFill>
                <a:latin typeface="Arial"/>
                <a:ea typeface="Arial"/>
              </a:rPr>
              <a:t>To address some constraints in Zambian farming systems, Feed the Future through IITA, is implementing</a:t>
            </a:r>
            <a:r>
              <a:rPr b="0" lang="en-US" sz="2700" spc="-1" strike="noStrike">
                <a:solidFill>
                  <a:srgbClr val="002060"/>
                </a:solidFill>
                <a:latin typeface="Arial"/>
                <a:ea typeface="Arial Unicode MS"/>
              </a:rPr>
              <a:t> </a:t>
            </a:r>
            <a:r>
              <a:rPr b="0" lang="en-US" sz="2700" spc="-1" strike="noStrike">
                <a:solidFill>
                  <a:srgbClr val="04617b"/>
                </a:solidFill>
                <a:latin typeface="Arial"/>
                <a:ea typeface="Arial Unicode MS"/>
              </a:rPr>
              <a:t>Sustainable Intensification of Maize-Legume Systems for the Eastern Province of Zambia</a:t>
            </a:r>
            <a:r>
              <a:rPr b="0" lang="en-US" sz="2700" spc="-1" strike="noStrike">
                <a:solidFill>
                  <a:srgbClr val="04617b"/>
                </a:solidFill>
                <a:latin typeface="Arial"/>
                <a:ea typeface="Arial"/>
              </a:rPr>
              <a:t> (SIMLEZA) which focuses</a:t>
            </a:r>
            <a:r>
              <a:rPr b="0" lang="en-US" sz="5000" spc="-1" strike="noStrike">
                <a:solidFill>
                  <a:srgbClr val="04617b"/>
                </a:solidFill>
                <a:latin typeface="Arial"/>
                <a:ea typeface="Arial"/>
              </a:rPr>
              <a:t>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28600" y="2895480"/>
            <a:ext cx="4648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 Maize-legume systems agronomy and breeding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utrition focus: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oya processing and utilization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apacity building of national agricultural research systems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C:\Users\Daniel\Desktop\pics 19 feb\IMG_1878.JPG"/>
          <p:cNvPicPr/>
          <p:nvPr/>
        </p:nvPicPr>
        <p:blipFill>
          <a:blip r:embed="rId1"/>
          <a:stretch/>
        </p:blipFill>
        <p:spPr>
          <a:xfrm>
            <a:off x="4648320" y="2790720"/>
            <a:ext cx="4038480" cy="26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"/>
                <a:ea typeface="Arial"/>
              </a:rPr>
              <a:t>SIMLEZA Project Si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-farm activit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ipata District: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anje and Chiparamba camp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tete District: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fumbwe and Kawalala camp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undazi District: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oya and Vuu camp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-station activit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sekera, GART, Kabwe, Misamfu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5" descr="Eastern_Zambia_districts (2)"/>
          <p:cNvPicPr/>
          <p:nvPr/>
        </p:nvPicPr>
        <p:blipFill>
          <a:blip r:embed="rId1"/>
          <a:srcRect l="711" t="0" r="711" b="0"/>
          <a:stretch/>
        </p:blipFill>
        <p:spPr>
          <a:xfrm>
            <a:off x="4572000" y="2133720"/>
            <a:ext cx="403848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"/>
                <a:ea typeface="Arial"/>
              </a:rPr>
              <a:t>Challeng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legumes selected are at the bottom of the farmers’ priorit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mmunity is uncertain of the market for the seed to be multiplied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rmers are not aware of the market (outlet) for the produc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rmers largely use the cowpeas leaves as vegetables and not the grain. There is therefore for a market for the gra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quipment for processing is rare and the current one for groundnut processing demands a lot of energ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9:42:22Z</dcterms:created>
  <dc:creator>HP</dc:creator>
  <dc:description/>
  <dc:language>en-US</dc:language>
  <cp:lastModifiedBy>HP</cp:lastModifiedBy>
  <dcterms:modified xsi:type="dcterms:W3CDTF">2012-10-01T19:42:37Z</dcterms:modified>
  <cp:revision>33</cp:revision>
  <dc:subject/>
  <dc:title>ZAMBIA</dc:title>
</cp:coreProperties>
</file>